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628-9A5D-4117-8925-6DA79677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C5E-FD33-4EB9-BF8C-992374C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102-EC29-4631-9F8D-EB955AFF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C18-2C48-4E36-9996-2EBAF63B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B43-61B7-4F6A-8E8E-74D2D023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5BA8-5D41-450A-9425-C7920F1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C84-4A57-4834-A158-6DD567C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FF5-5AF7-4EBF-9DFE-426B5FF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79B9-14E0-4208-A69C-6C846DB9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83E-6E9C-4D5F-A6E1-4EA3197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593-4F4D-4BA2-B1AF-3D9F8052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1B8-DCF6-42E3-82FB-985C9C1F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3E9-1D35-4EF0-AE62-84143D8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A069-8E46-4389-859F-D5F302E9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7B4D-87C9-4E9C-B6E7-2C98DC4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005-F6A5-4706-845D-55042EB8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2008-6395-45E8-837B-B027E714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8E6E2-DEA4-4990-A716-97093D95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BEEA9-0184-4827-95B3-C89BC11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D3B68-6CA8-404F-AAC7-42809573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1A1EA-F6FE-4C09-B286-C70E6AA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514C7-181E-48CD-9723-B0F88FD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4B6-F75A-4EF2-BC71-E13FE4A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0D85D-F7CD-4EF4-9D61-CBF27679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413E7-8A6E-4C7F-857D-79338E2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E5F8C-D267-4856-BE74-B02E14B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F66F2-7AC0-49E8-8DD0-57BB01E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D8AE1-4C48-4C41-A32E-31D7AC7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0668B-6DD8-44EB-B33F-6315129F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5467E-0360-4C94-9152-E4474B1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CFAF-2AC5-4EBA-B476-E7CAFD9C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5E16-1777-4D94-A3FC-97580EC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4754-BBA9-42D7-ACF9-21A7E30E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317-18B8-4F47-A443-2F58B9F9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6300-8F2D-4E11-BEFC-445AAD7E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7D40-F625-4C3F-8D2D-F5C16C7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A2C7-9614-4FB1-B73D-251C5BC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E9A6-B1AD-45D5-ACCD-4E16114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DC6F-6861-4717-B63E-66F19DE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E7EA-D275-4A78-AF28-36A2624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447C-20F0-4282-91BB-887F8DD0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532D-F449-421B-8645-0E3788BD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4DFF-97F5-4E2D-9494-4355447A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766-AC16-4518-962B-1FFE7EC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7C9-6D67-410E-9E60-9AA81E6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47E-D534-4D4E-A5D1-42773D2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3BC-9AED-42F4-82D7-3DF74C4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AC9-4C8F-4B0B-9E09-5116C24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051-6245-463D-82A3-E222328566FE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BD4-89A4-45BF-9D39-743C8335C3A1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14F-0E8E-4CE9-A94D-3A38C7EBF2BB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4C4-EE49-4243-A789-6F5991BBD80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nP5iDKwuwk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e67c8"/>
                </a:solidFill>
                <a:uFillTx/>
                <a:latin typeface="Century Gothic"/>
              </a:rPr>
              <a:t>Do Now!!!</a:t>
            </a:r>
            <a:endParaRPr b="0" lang="en-US" sz="6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480"/>
            <a:ext cx="8229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ctr">
              <a:spcBef>
                <a:spcPts val="12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What someone might say to </a:t>
            </a: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refute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 or </a:t>
            </a: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disprove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 (go against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)</a:t>
            </a:r>
            <a:r>
              <a:rPr b="1" lang="en-US" sz="5000" spc="-1" strike="noStrike">
                <a:solidFill>
                  <a:srgbClr val="c3260c"/>
                </a:solidFill>
                <a:latin typeface="Century Gothic"/>
              </a:rPr>
              <a:t> </a:t>
            </a:r>
            <a:br>
              <a:rPr sz="5000"/>
            </a:b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your argument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?</a:t>
            </a:r>
            <a:endParaRPr b="0" lang="en-US" sz="50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5257800"/>
            <a:ext cx="8077320" cy="14097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14124"/>
                </a:solidFill>
                <a:uFillTx/>
                <a:latin typeface="Century Gothic"/>
              </a:rPr>
              <a:t>Claim: </a:t>
            </a: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Physical education should be required by students everyday in school.</a:t>
            </a:r>
            <a:br>
              <a:rPr sz="2400"/>
            </a:b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entury Gothic"/>
              </a:rPr>
              <a:t>Counterclaim: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Requiring physical education every day will make it more difficult for students to take other elective classes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Century Gothic"/>
              </a:rPr>
              <a:t>Refute the counterclaim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Refute The Counterclaim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ontinue working on your paper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e67c8"/>
                </a:solidFill>
                <a:uFillTx/>
                <a:latin typeface="Century Gothic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8</a:t>
            </a:r>
            <a:r>
              <a:rPr b="0" lang="en-US" sz="1800" spc="-1" strike="noStrike" baseline="30000">
                <a:solidFill>
                  <a:srgbClr val="424242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://advantage.edu.pl/wp-content/uploads/2014/01/argue-the-toss.jpg"/>
          <p:cNvPicPr/>
          <p:nvPr/>
        </p:nvPicPr>
        <p:blipFill>
          <a:blip r:embed="rId1"/>
          <a:stretch/>
        </p:blipFill>
        <p:spPr>
          <a:xfrm>
            <a:off x="685800" y="4065480"/>
            <a:ext cx="2895480" cy="2335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e67c8"/>
                </a:solidFill>
                <a:uFillTx/>
                <a:latin typeface="Century Gothic"/>
              </a:rPr>
              <a:t>The Argumentative Essay</a:t>
            </a:r>
            <a:endParaRPr b="0" lang="en-US" sz="4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828440"/>
            <a:ext cx="82296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Uses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evidence to </a:t>
            </a:r>
            <a:r>
              <a:rPr b="1" lang="en-US" sz="4400" spc="-1" strike="noStrike" u="sng">
                <a:solidFill>
                  <a:srgbClr val="ff8021"/>
                </a:solidFill>
                <a:uFillTx/>
                <a:latin typeface="Century Gothic"/>
              </a:rPr>
              <a:t>both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Century Gothic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 to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refute the opposing argument</a:t>
            </a: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2" name="Picture 5" descr="C:\Users\lgoodine\AppData\Local\Microsoft\Windows\Temporary Internet Files\Content.IE5\NZSFGQJ0\Web_Proof[1].jpg"/>
          <p:cNvPicPr/>
          <p:nvPr/>
        </p:nvPicPr>
        <p:blipFill>
          <a:blip r:embed="rId2"/>
          <a:srcRect l="19084" t="16846" r="15571" b="15446"/>
          <a:stretch/>
        </p:blipFill>
        <p:spPr>
          <a:xfrm>
            <a:off x="5794200" y="4572000"/>
            <a:ext cx="2824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480" y="99036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8021"/>
                </a:solidFill>
                <a:uFillTx/>
                <a:latin typeface="Century Gothic"/>
              </a:rPr>
              <a:t>Counterclaim</a:t>
            </a:r>
            <a:r>
              <a:rPr b="1" lang="en-US" sz="2800" spc="-1" strike="noStrike">
                <a:solidFill>
                  <a:srgbClr val="ff8021"/>
                </a:solidFill>
                <a:latin typeface="Century Gothic"/>
              </a:rPr>
              <a:t>: 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5" name="Picture 5" descr="http://images.clipartpanda.com/map-clipart-0515-1006-1802-2129_cartoon_pirates_buried_treasure_map.jpg"/>
          <p:cNvPicPr/>
          <p:nvPr/>
        </p:nvPicPr>
        <p:blipFill>
          <a:blip r:embed="rId1"/>
          <a:stretch/>
        </p:blipFill>
        <p:spPr>
          <a:xfrm>
            <a:off x="3505320" y="4819680"/>
            <a:ext cx="1447560" cy="1590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http://continents.phillipmartin.info/geo_mapskills.gif"/>
          <p:cNvPicPr/>
          <p:nvPr/>
        </p:nvPicPr>
        <p:blipFill>
          <a:blip r:embed="rId2"/>
          <a:stretch/>
        </p:blipFill>
        <p:spPr>
          <a:xfrm>
            <a:off x="5410080" y="4710240"/>
            <a:ext cx="3009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4e67c8"/>
                </a:solidFill>
                <a:uFillTx/>
                <a:latin typeface="Century Gothic"/>
              </a:rPr>
              <a:t>Counterclaim</a:t>
            </a:r>
            <a:endParaRPr b="0" lang="en-US" sz="45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520" y="1598400"/>
            <a:ext cx="8153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A </a:t>
            </a:r>
            <a:r>
              <a:rPr b="1" lang="en-US" sz="3000" spc="-1" strike="noStrike">
                <a:solidFill>
                  <a:srgbClr val="ff8021"/>
                </a:solidFill>
                <a:latin typeface="Century Gothic"/>
              </a:rPr>
              <a:t>claim made to offset or disprove </a:t>
            </a: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another claim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Literally the </a:t>
            </a:r>
            <a:r>
              <a:rPr b="1" lang="en-US" sz="3000" spc="-1" strike="noStrike" u="sng">
                <a:solidFill>
                  <a:srgbClr val="ff8021"/>
                </a:solidFill>
                <a:uFillTx/>
                <a:latin typeface="Century Gothic"/>
              </a:rPr>
              <a:t>OPPOSITE</a:t>
            </a:r>
            <a:r>
              <a:rPr b="1" lang="en-US" sz="3000" spc="-1" strike="noStrike">
                <a:solidFill>
                  <a:srgbClr val="ff8021"/>
                </a:solidFill>
                <a:latin typeface="Century Gothic"/>
              </a:rPr>
              <a:t> of your claim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4114800" y="389880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http://static.freepik.com/free-photo/megaphone-clip-art_427314.jpg"/>
          <p:cNvPicPr/>
          <p:nvPr/>
        </p:nvPicPr>
        <p:blipFill>
          <a:blip r:embed="rId2"/>
          <a:stretch/>
        </p:blipFill>
        <p:spPr>
          <a:xfrm>
            <a:off x="914400" y="3898800"/>
            <a:ext cx="2762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e67c8"/>
                </a:solidFill>
                <a:uFillTx/>
                <a:latin typeface="Century Gothic"/>
              </a:rPr>
              <a:t>Logic</a:t>
            </a:r>
            <a:endParaRPr b="0" lang="en-US" sz="5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2844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A 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counterclaim</a:t>
            </a: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, like the claim, 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must </a:t>
            </a:r>
            <a:r>
              <a:rPr b="1" lang="en-US" sz="3500" spc="-1" strike="noStrike" u="sng">
                <a:solidFill>
                  <a:srgbClr val="ff8021"/>
                </a:solidFill>
                <a:uFillTx/>
                <a:latin typeface="Century Gothic"/>
              </a:rPr>
              <a:t>logically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 and </a:t>
            </a:r>
            <a:r>
              <a:rPr b="1" lang="en-US" sz="3500" spc="-1" strike="noStrike" u="sng">
                <a:solidFill>
                  <a:srgbClr val="ff8021"/>
                </a:solidFill>
                <a:uFillTx/>
                <a:latin typeface="Century Gothic"/>
              </a:rPr>
              <a:t>clearly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 respond </a:t>
            </a: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to the prompt.  </a:t>
            </a:r>
            <a:endParaRPr b="0" lang="en-US" sz="35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53" name="Picture 5" descr="http://www.acclaimimages.com/_gallery/_images_n300/logic.jpg"/>
          <p:cNvPicPr/>
          <p:nvPr/>
        </p:nvPicPr>
        <p:blipFill>
          <a:blip r:embed="rId1"/>
          <a:stretch/>
        </p:blipFill>
        <p:spPr>
          <a:xfrm>
            <a:off x="609480" y="357192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http://firstimpressionscollegeconsulting.files.wordpress.com/2012/06/cartoon-student-writing-essays.gif"/>
          <p:cNvPicPr/>
          <p:nvPr/>
        </p:nvPicPr>
        <p:blipFill>
          <a:blip r:embed="rId2"/>
          <a:stretch/>
        </p:blipFill>
        <p:spPr>
          <a:xfrm>
            <a:off x="3657600" y="3505320"/>
            <a:ext cx="5087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Use “The Force”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56c7aa"/>
                </a:solidFill>
                <a:uFillTx/>
                <a:latin typeface="Century Gothic"/>
                <a:hlinkClick r:id="rId1"/>
              </a:rPr>
              <a:t>Like Gold Five</a:t>
            </a: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8021"/>
                </a:solidFill>
                <a:uFillTx/>
                <a:latin typeface="Century Gothic"/>
              </a:rPr>
              <a:t>claims</a:t>
            </a: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 and </a:t>
            </a:r>
            <a:r>
              <a:rPr b="1" lang="en-US" sz="2500" spc="-1" strike="noStrike" u="sng">
                <a:solidFill>
                  <a:srgbClr val="ff8021"/>
                </a:solidFill>
                <a:uFillTx/>
                <a:latin typeface="Century Gothic"/>
              </a:rPr>
              <a:t>counter claims must stay on target</a:t>
            </a: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!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1d31a"/>
                </a:solidFill>
                <a:latin typeface="Century Gothic"/>
              </a:rPr>
              <a:t>The Force cannot save you if you lose track of your target!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57" name="Picture 2" descr="http://img3.wikia.nocookie.net/__cb20081124231715/starwars/images/f/f7/Gold_Five.jpg"/>
          <p:cNvPicPr/>
          <p:nvPr/>
        </p:nvPicPr>
        <p:blipFill>
          <a:blip r:embed="rId2"/>
          <a:stretch/>
        </p:blipFill>
        <p:spPr>
          <a:xfrm>
            <a:off x="3282840" y="2998800"/>
            <a:ext cx="2584440" cy="177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cdn.geekwire.com/wp-content/uploads/2014/12/hansolo-imdb.jpg"/>
          <p:cNvPicPr/>
          <p:nvPr/>
        </p:nvPicPr>
        <p:blipFill>
          <a:blip r:embed="rId3"/>
          <a:srcRect l="5197" t="4225" r="6492" b="0"/>
          <a:stretch/>
        </p:blipFill>
        <p:spPr>
          <a:xfrm>
            <a:off x="6019920" y="2998800"/>
            <a:ext cx="2590560" cy="1779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s://latimesherocomplex.files.wordpress.com/2013/02/yoda.jpg"/>
          <p:cNvPicPr/>
          <p:nvPr/>
        </p:nvPicPr>
        <p:blipFill>
          <a:blip r:embed="rId4"/>
          <a:srcRect l="25760" t="0" r="21735" b="0"/>
          <a:stretch/>
        </p:blipFill>
        <p:spPr>
          <a:xfrm>
            <a:off x="533520" y="2998800"/>
            <a:ext cx="259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Century Gothic"/>
              </a:rPr>
              <a:t>Use one paragraph for your counterclai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pic>
        <p:nvPicPr>
          <p:cNvPr id="361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914400" y="2416320"/>
            <a:ext cx="2209680" cy="220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6000840" y="2438280"/>
            <a:ext cx="2228760" cy="2133720"/>
          </a:xfrm>
          <a:prstGeom prst="rect">
            <a:avLst/>
          </a:prstGeom>
          <a:ln w="0">
            <a:noFill/>
          </a:ln>
        </p:spPr>
      </p:pic>
      <p:sp>
        <p:nvSpPr>
          <p:cNvPr id="363" name="Title 1"/>
          <p:cNvSpPr/>
          <p:nvPr/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e67c8"/>
                </a:solidFill>
                <a:uFillTx/>
                <a:latin typeface="Century Gothic"/>
              </a:rPr>
              <a:t>Rebutt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itle 1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8021"/>
                </a:solidFill>
                <a:uFillTx/>
                <a:latin typeface="Century Gothic"/>
              </a:rPr>
              <a:t>Rebuttal: the OPPOSING cl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4" descr="megaphone clipart 3"/>
          <p:cNvPicPr/>
          <p:nvPr/>
        </p:nvPicPr>
        <p:blipFill>
          <a:blip r:embed="rId3"/>
          <a:stretch/>
        </p:blipFill>
        <p:spPr>
          <a:xfrm>
            <a:off x="3429000" y="2819520"/>
            <a:ext cx="215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Refute The Counterclaim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12193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14124"/>
                </a:solidFill>
                <a:uFillTx/>
                <a:latin typeface="Century Gothic"/>
              </a:rPr>
              <a:t>Claim:</a:t>
            </a: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Schools should continue selling chocolate milk.</a:t>
            </a:r>
            <a:br>
              <a:rPr sz="2400"/>
            </a:b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entury Gothic"/>
              </a:rPr>
              <a:t>Counterclaim: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Chocolate milk has a lot of added sugar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Century Gothic"/>
              </a:rPr>
              <a:t>Refute the Counterclaim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: 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71" name="Picture 6" descr="http://i.istockimg.com/file_thumbview_approve/2190014/2/stock-illustration-2190014-vector-chocolate-milk-carton.jpg"/>
          <p:cNvPicPr/>
          <p:nvPr/>
        </p:nvPicPr>
        <p:blipFill>
          <a:blip r:embed="rId1"/>
          <a:stretch/>
        </p:blipFill>
        <p:spPr>
          <a:xfrm>
            <a:off x="762120" y="5105520"/>
            <a:ext cx="2438280" cy="1407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ttp://mommyedwards.com/wp-content/uploads/2013/11/26627-8-ff-choc-milk-hpt2___Source.jpg"/>
          <p:cNvPicPr/>
          <p:nvPr/>
        </p:nvPicPr>
        <p:blipFill>
          <a:blip r:embed="rId2"/>
          <a:srcRect l="13510" t="7617" r="8684" b="7203"/>
          <a:stretch/>
        </p:blipFill>
        <p:spPr>
          <a:xfrm>
            <a:off x="6786720" y="510552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http://www.foodclipart.com/food_clipart_images/small_jugs_of_chocolate_milk_strawberry_milk_and_regular_milk_0515-1007-1003-1842_SMU.jpg"/>
          <p:cNvPicPr/>
          <p:nvPr/>
        </p:nvPicPr>
        <p:blipFill>
          <a:blip r:embed="rId3"/>
          <a:stretch/>
        </p:blipFill>
        <p:spPr>
          <a:xfrm>
            <a:off x="3200400" y="5105520"/>
            <a:ext cx="2743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Shettle, Meghan</cp:lastModifiedBy>
  <cp:lastPrinted>2015-02-13T12:44:39Z</cp:lastPrinted>
  <dcterms:modified xsi:type="dcterms:W3CDTF">2015-02-17T22:48:04Z</dcterms:modified>
  <cp:revision>17</cp:revision>
  <dc:subject/>
  <dc:title>Writing Part 4:   Argument Writing</dc:title>
</cp:coreProperties>
</file>